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3.wmf" ContentType="image/x-wmf"/>
  <Override PartName="/ppt/media/image22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4.jpeg" ContentType="image/jpeg"/>
  <Override PartName="/ppt/media/image15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8837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88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20760" y="663120"/>
            <a:ext cx="441792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196880"/>
            <a:ext cx="5029200" cy="3978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B7646B34-E08C-491F-AB82-FAC0851D6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EF0589D-0133-4BD0-B082-1223AF56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39628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428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22200" y="662040"/>
            <a:ext cx="4424400" cy="3317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200480"/>
            <a:ext cx="5029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44E-1B18-405F-8B2A-4D146ACB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846-CDC9-4FFD-8E8F-5508A613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62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519-4BEE-4EE4-B98F-A04C306D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15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91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15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91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C65-84BF-444D-A45E-B7CFD768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F50-4633-4065-97C2-1D3828F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201-5925-4BAB-80CB-9392770F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D65-6889-4B80-9849-685BEE7A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CCC-5249-4D77-A831-E96E401F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709-A02D-4A9C-81B2-43BAA38F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B50-5CE1-4F77-9441-F4F48508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62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26C-8F8D-479E-B6B2-BD70FBF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FAB-01D9-4FDD-BDBD-CA61920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SzPct val="6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568440" indent="-111240">
              <a:spcBef>
                <a:spcPts val="700"/>
              </a:spcBef>
              <a:buClr>
                <a:srgbClr val="000000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963720" indent="-28116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3" marL="1306440" indent="-106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4" marL="16495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5" marL="16495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6" marL="16495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371-63CA-4A4F-A53E-E3541A4EA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990720"/>
            <a:ext cx="8534520" cy="228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80040" y="6669000"/>
            <a:ext cx="129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9, Etienne We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58240" y="5794200"/>
            <a:ext cx="1085760" cy="106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30400" y="0"/>
            <a:ext cx="7275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71520" y="4610160"/>
            <a:ext cx="8153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...................................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15800" y="3600360"/>
            <a:ext cx="533520" cy="457200"/>
          </a:xfrm>
          <a:prstGeom prst="star5">
            <a:avLst/>
          </a:prstGeom>
          <a:gradFill rotWithShape="0">
            <a:gsLst>
              <a:gs pos="0">
                <a:srgbClr val="fefee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28600"/>
            <a:ext cx="533520" cy="457200"/>
          </a:xfrm>
          <a:prstGeom prst="star5">
            <a:avLst/>
          </a:prstGeom>
          <a:gradFill rotWithShape="0">
            <a:gsLst>
              <a:gs pos="0">
                <a:srgbClr val="fed0fe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24840" y="2523960"/>
            <a:ext cx="533520" cy="457200"/>
          </a:xfrm>
          <a:prstGeom prst="star5">
            <a:avLst/>
          </a:prstGeom>
          <a:gradFill rotWithShape="0">
            <a:gsLst>
              <a:gs pos="0">
                <a:srgbClr val="b1eed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8960" y="3168720"/>
            <a:ext cx="7248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800080"/>
                </a:solidFill>
                <a:latin typeface="Arial"/>
              </a:rPr>
              <a:t>Perspectives from </a:t>
            </a:r>
            <a:br>
              <a:rPr sz="3800"/>
            </a:br>
            <a:r>
              <a:rPr b="1" i="1" lang="en-US" sz="3800" spc="-1" strike="noStrike">
                <a:solidFill>
                  <a:srgbClr val="800080"/>
                </a:solidFill>
                <a:latin typeface="Arial"/>
              </a:rPr>
              <a:t>            social learning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 rot="21034800">
            <a:off x="133200" y="1449000"/>
            <a:ext cx="898056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arning in landscapes of practice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81080" y="5184720"/>
            <a:ext cx="3860280" cy="1585800"/>
            <a:chOff x="181080" y="5184720"/>
            <a:chExt cx="3860280" cy="1585800"/>
          </a:xfrm>
        </p:grpSpPr>
        <p:sp>
          <p:nvSpPr>
            <p:cNvPr id="59" name=""/>
            <p:cNvSpPr/>
            <p:nvPr/>
          </p:nvSpPr>
          <p:spPr>
            <a:xfrm>
              <a:off x="1024920" y="5184720"/>
              <a:ext cx="30164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ienne Wen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Learning for a small plane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.O. Box 81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North San Juan, CA 95960, U.S.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ne  (530) 292-9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-mail  etienne@ewenger.co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Website: www.ewenger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1080" y="5273280"/>
              <a:ext cx="251280" cy="1327680"/>
            </a:xfrm>
            <a:custGeom>
              <a:avLst/>
              <a:gdLst>
                <a:gd name="textAreaLeft" fmla="*/ 36720 w 251280"/>
                <a:gd name="textAreaRight" fmla="*/ 214560 w 251280"/>
                <a:gd name="textAreaTop" fmla="*/ 36720 h 1327680"/>
                <a:gd name="textAreaBottom" fmla="*/ 1290960 h 1327680"/>
              </a:gdLst>
              <a:ahLst/>
              <a:rect l="textAreaLeft" t="textAreaTop" r="textAreaRight" b="textAreaBottom"/>
              <a:pathLst>
                <a:path w="21600" h="113995">
                  <a:moveTo>
                    <a:pt x="10800" y="0"/>
                  </a:moveTo>
                  <a:arcTo wR="10800" hR="10800" stAng="16200000" swAng="-5400000"/>
                  <a:lnTo>
                    <a:pt x="0" y="103195"/>
                  </a:lnTo>
                  <a:arcTo wR="10800" hR="10800" stAng="10800000" swAng="-5400000"/>
                  <a:lnTo>
                    <a:pt x="10800" y="1139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080" y="6381360"/>
              <a:ext cx="906480" cy="274680"/>
            </a:xfrm>
            <a:prstGeom prst="roundRect">
              <a:avLst>
                <a:gd name="adj" fmla="val 5000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4360" y="6023880"/>
              <a:ext cx="466920" cy="522000"/>
            </a:xfrm>
            <a:prstGeom prst="rtTriangl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88720" y="5428800"/>
              <a:ext cx="994680" cy="1004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75080"/>
            <a:ext cx="91440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                                   … </a:t>
            </a:r>
            <a:r>
              <a:rPr b="1" i="1" lang="en-AU" sz="2400" spc="-1" strike="noStrike">
                <a:solidFill>
                  <a:srgbClr val="0000cc"/>
                </a:solidFill>
                <a:latin typeface="Arial"/>
              </a:rPr>
              <a:t>a tension for meaningful learning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152800"/>
            <a:ext cx="809640" cy="276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7680" y="521028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92880" y="496872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4200" y="592776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4880" y="642924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75928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5160" y="494676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29280" y="6181560"/>
            <a:ext cx="914400" cy="41940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2480" y="614052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4680" y="542304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53400" y="543888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25840" y="4521240"/>
            <a:ext cx="914400" cy="419040"/>
          </a:xfrm>
          <a:prstGeom prst="ellipse">
            <a:avLst/>
          </a:prstGeom>
          <a:solidFill>
            <a:srgbClr val="fbe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51200" y="4206960"/>
            <a:ext cx="470160" cy="78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648400" y="4826160"/>
            <a:ext cx="1108080" cy="799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853160" y="5095800"/>
            <a:ext cx="271440" cy="911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665680" y="6016680"/>
            <a:ext cx="393840" cy="66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216920" y="4973760"/>
            <a:ext cx="571320" cy="444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194520" y="5800680"/>
            <a:ext cx="19368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161120" y="5700600"/>
            <a:ext cx="249480" cy="88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815160" y="5137200"/>
            <a:ext cx="299880" cy="88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4456080" y="6016680"/>
            <a:ext cx="530280" cy="690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3946680" y="4836960"/>
            <a:ext cx="865080" cy="441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015920"/>
            <a:ext cx="3419640" cy="1819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noAutofit/>
          </a:bodyPr>
          <a:p>
            <a:pPr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Colonization of the landscape…</a:t>
            </a:r>
            <a:br>
              <a:rPr sz="1600"/>
            </a:b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dification and regulation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Evidence-based prescription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Curriculum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Institutionalized accountability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Standards of qualification</a:t>
            </a:r>
            <a:br>
              <a:rPr sz="1000"/>
            </a:br>
            <a:br>
              <a:rPr sz="10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59200"/>
            <a:ext cx="3622680" cy="1736640"/>
          </a:xfrm>
          <a:prstGeom prst="rect">
            <a:avLst/>
          </a:prstGeom>
          <a:solidFill>
            <a:srgbClr val="fbe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Reconfiguration of the landscape…</a:t>
            </a:r>
            <a:br>
              <a:rPr sz="1600"/>
            </a:br>
            <a:r>
              <a:rPr b="1" i="1" lang="en-AU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cc"/>
                </a:solidFill>
                <a:latin typeface="Arial"/>
              </a:rPr>
              <a:t>Communities and networks</a:t>
            </a:r>
            <a:br>
              <a:rPr sz="1400"/>
            </a:br>
            <a:r>
              <a:rPr b="1" lang="en-A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Peer-to-peer communication</a:t>
            </a:r>
            <a:r>
              <a:rPr b="1" lang="en-AU" sz="1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400"/>
            </a:br>
            <a:r>
              <a:rPr b="1" lang="en-AU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AU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AU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ersonal meaning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Creativity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Individual id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83360" y="3892680"/>
            <a:ext cx="485640" cy="2376360"/>
          </a:xfrm>
          <a:prstGeom prst="upArrow">
            <a:avLst>
              <a:gd name="adj1" fmla="val 45750"/>
              <a:gd name="adj2" fmla="val 77137"/>
            </a:avLst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90920" y="730080"/>
            <a:ext cx="4682880" cy="1966680"/>
            <a:chOff x="4390920" y="730080"/>
            <a:chExt cx="4682880" cy="1966680"/>
          </a:xfrm>
        </p:grpSpPr>
        <p:sp>
          <p:nvSpPr>
            <p:cNvPr id="91" name=""/>
            <p:cNvSpPr/>
            <p:nvPr/>
          </p:nvSpPr>
          <p:spPr>
            <a:xfrm>
              <a:off x="4390920" y="1326600"/>
              <a:ext cx="4017960" cy="775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5920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3328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4444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4400" y="1883520"/>
              <a:ext cx="62244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51000" y="1883520"/>
              <a:ext cx="622800" cy="813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47760" y="2280240"/>
              <a:ext cx="6260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5480" y="730080"/>
              <a:ext cx="534600" cy="458280"/>
            </a:xfrm>
            <a:prstGeom prst="rect">
              <a:avLst/>
            </a:prstGeom>
            <a:solidFill>
              <a:srgbClr val="00582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2"/>
              <a:endCxn id="92" idx="0"/>
            </p:cNvCxnSpPr>
            <p:nvPr/>
          </p:nvCxnSpPr>
          <p:spPr>
            <a:xfrm rot="5400000">
              <a:off x="5703480" y="554760"/>
              <a:ext cx="695520" cy="196272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8" idx="2"/>
              <a:endCxn id="93" idx="0"/>
            </p:cNvCxnSpPr>
            <p:nvPr/>
          </p:nvCxnSpPr>
          <p:spPr>
            <a:xfrm rot="5400000">
              <a:off x="6140880" y="991800"/>
              <a:ext cx="695520" cy="108828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8" idx="2"/>
              <a:endCxn id="94" idx="0"/>
            </p:cNvCxnSpPr>
            <p:nvPr/>
          </p:nvCxnSpPr>
          <p:spPr>
            <a:xfrm rot="5400000">
              <a:off x="6595920" y="1447200"/>
              <a:ext cx="695520" cy="17748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2" name=""/>
            <p:cNvCxnSpPr>
              <a:stCxn id="98" idx="2"/>
              <a:endCxn id="95" idx="0"/>
            </p:cNvCxnSpPr>
            <p:nvPr/>
          </p:nvCxnSpPr>
          <p:spPr>
            <a:xfrm flipH="1" rot="16200000">
              <a:off x="7020720" y="1199160"/>
              <a:ext cx="695520" cy="67320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98" idx="2"/>
              <a:endCxn id="96" idx="0"/>
            </p:cNvCxnSpPr>
            <p:nvPr/>
          </p:nvCxnSpPr>
          <p:spPr>
            <a:xfrm flipH="1" rot="16200000">
              <a:off x="7549560" y="670680"/>
              <a:ext cx="695520" cy="1730520"/>
            </a:xfrm>
            <a:prstGeom prst="bentConnector3">
              <a:avLst>
                <a:gd name="adj1" fmla="val 4987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>
              <a:off x="7438320" y="1147680"/>
              <a:ext cx="534960" cy="298080"/>
            </a:xfrm>
            <a:prstGeom prst="rect">
              <a:avLst/>
            </a:prstGeom>
            <a:solidFill>
              <a:srgbClr val="cbd4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4480" y="2280240"/>
              <a:ext cx="534600" cy="33912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83320" y="2280240"/>
              <a:ext cx="534600" cy="33912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440" y="2263320"/>
              <a:ext cx="534600" cy="33876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3280" y="2280240"/>
              <a:ext cx="534600" cy="339120"/>
            </a:xfrm>
            <a:prstGeom prst="rect">
              <a:avLst/>
            </a:prstGeom>
            <a:solidFill>
              <a:srgbClr val="acc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4" idx="1"/>
              <a:endCxn id="98" idx="2"/>
            </p:cNvCxnSpPr>
            <p:nvPr/>
          </p:nvCxnSpPr>
          <p:spPr>
            <a:xfrm rot="10800000">
              <a:off x="7032240" y="1187640"/>
              <a:ext cx="406080" cy="109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10" name=""/>
          <p:cNvSpPr/>
          <p:nvPr/>
        </p:nvSpPr>
        <p:spPr>
          <a:xfrm>
            <a:off x="5273640" y="853920"/>
            <a:ext cx="485640" cy="2586240"/>
          </a:xfrm>
          <a:prstGeom prst="downArrow">
            <a:avLst>
              <a:gd name="adj1" fmla="val 49676"/>
              <a:gd name="adj2" fmla="val 68318"/>
            </a:avLst>
          </a:prstGeom>
          <a:gradFill rotWithShape="0">
            <a:gsLst>
              <a:gs pos="0">
                <a:srgbClr val="ccccff"/>
              </a:gs>
              <a:gs pos="100000">
                <a:srgbClr val="fcefb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3528800">
            <a:off x="3026160" y="5046840"/>
            <a:ext cx="1182600" cy="1143000"/>
          </a:xfrm>
          <a:prstGeom prst="rtTriangle">
            <a:avLst/>
          </a:prstGeom>
          <a:solidFill>
            <a:srgbClr val="fbe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3528800">
            <a:off x="2749320" y="1289880"/>
            <a:ext cx="1316160" cy="1256040"/>
          </a:xfrm>
          <a:prstGeom prst="rtTriangl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23800" y="95400"/>
            <a:ext cx="80582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ticalization and horizontalization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228680"/>
            <a:ext cx="9010800" cy="56293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efefe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77840" y="1946160"/>
            <a:ext cx="1722600" cy="75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8520" y="3013200"/>
            <a:ext cx="1722600" cy="711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Te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9640" y="1498680"/>
            <a:ext cx="2041560" cy="79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3280" y="3565440"/>
            <a:ext cx="1722240" cy="671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9120" y="4565520"/>
            <a:ext cx="1722240" cy="67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998800"/>
            <a:ext cx="2041560" cy="79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962800">
            <a:off x="2533320" y="1915920"/>
            <a:ext cx="1716120" cy="341280"/>
          </a:xfrm>
          <a:prstGeom prst="leftRightArrow">
            <a:avLst>
              <a:gd name="adj1" fmla="val 50000"/>
              <a:gd name="adj2" fmla="val 10010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80400">
            <a:off x="2364840" y="2705040"/>
            <a:ext cx="1717920" cy="343080"/>
          </a:xfrm>
          <a:prstGeom prst="leftRightArrow">
            <a:avLst>
              <a:gd name="adj1" fmla="val 50000"/>
              <a:gd name="adj2" fmla="val 99683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710000">
            <a:off x="1755360" y="4324320"/>
            <a:ext cx="1717560" cy="343080"/>
          </a:xfrm>
          <a:prstGeom prst="leftRightArrow">
            <a:avLst>
              <a:gd name="adj1" fmla="val 50000"/>
              <a:gd name="adj2" fmla="val 99662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7296200">
            <a:off x="3582000" y="394704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24600" y="3219480"/>
            <a:ext cx="1715760" cy="341280"/>
          </a:xfrm>
          <a:prstGeom prst="leftRightArrow">
            <a:avLst>
              <a:gd name="adj1" fmla="val 50000"/>
              <a:gd name="adj2" fmla="val 100083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05400">
            <a:off x="5527800" y="234936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6023400">
            <a:off x="1191240" y="2932920"/>
            <a:ext cx="1128600" cy="396720"/>
          </a:xfrm>
          <a:prstGeom prst="leftRightArrow">
            <a:avLst>
              <a:gd name="adj1" fmla="val 50000"/>
              <a:gd name="adj2" fmla="val 56633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7256600">
            <a:off x="4273560" y="2435400"/>
            <a:ext cx="1101600" cy="396720"/>
          </a:xfrm>
          <a:prstGeom prst="leftRightArrow">
            <a:avLst>
              <a:gd name="adj1" fmla="val 50000"/>
              <a:gd name="adj2" fmla="val 55278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835400">
            <a:off x="4357800" y="4025520"/>
            <a:ext cx="2874960" cy="343080"/>
          </a:xfrm>
          <a:prstGeom prst="leftRightArrow">
            <a:avLst>
              <a:gd name="adj1" fmla="val 53509"/>
              <a:gd name="adj2" fmla="val 12837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510400">
            <a:off x="2212560" y="3547800"/>
            <a:ext cx="1717560" cy="342720"/>
          </a:xfrm>
          <a:prstGeom prst="leftRightArrow">
            <a:avLst>
              <a:gd name="adj1" fmla="val 50000"/>
              <a:gd name="adj2" fmla="val 99767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5000760"/>
            <a:ext cx="1722240" cy="447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8040" y="5165640"/>
            <a:ext cx="1722240" cy="447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45600">
            <a:off x="3247560" y="5169960"/>
            <a:ext cx="1268640" cy="341640"/>
          </a:xfrm>
          <a:prstGeom prst="leftRightArrow">
            <a:avLst>
              <a:gd name="adj1" fmla="val 50000"/>
              <a:gd name="adj2" fmla="val 7392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4320" y="4398840"/>
            <a:ext cx="1951200" cy="68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7256600">
            <a:off x="7147800" y="3867480"/>
            <a:ext cx="906120" cy="396720"/>
          </a:xfrm>
          <a:prstGeom prst="leftRightArrow">
            <a:avLst>
              <a:gd name="adj1" fmla="val 50000"/>
              <a:gd name="adj2" fmla="val 45469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826600">
            <a:off x="4565520" y="4784400"/>
            <a:ext cx="2167200" cy="342720"/>
          </a:xfrm>
          <a:prstGeom prst="leftRightArrow">
            <a:avLst>
              <a:gd name="adj1" fmla="val 50000"/>
              <a:gd name="adj2" fmla="val 125885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105400">
            <a:off x="4719600" y="3851280"/>
            <a:ext cx="2170080" cy="420840"/>
          </a:xfrm>
          <a:prstGeom prst="leftRightArrow">
            <a:avLst>
              <a:gd name="adj1" fmla="val 39713"/>
              <a:gd name="adj2" fmla="val 60852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58880" y="5794200"/>
            <a:ext cx="172260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7360" y="5851440"/>
            <a:ext cx="172224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627600">
            <a:off x="3419640" y="533772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9000">
            <a:off x="3198960" y="6038640"/>
            <a:ext cx="982440" cy="341280"/>
          </a:xfrm>
          <a:prstGeom prst="leftRightArrow">
            <a:avLst>
              <a:gd name="adj1" fmla="val 50000"/>
              <a:gd name="adj2" fmla="val 57307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4540200">
            <a:off x="517680" y="489168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>
              <a:alpha val="1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4280" y="171360"/>
            <a:ext cx="763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mplex landscape of practic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92680" y="783720"/>
            <a:ext cx="3213360" cy="5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a body of knowledge</a:t>
            </a:r>
            <a:endParaRPr b="1" i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228680"/>
            <a:ext cx="9010800" cy="56293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77840" y="1946160"/>
            <a:ext cx="1722600" cy="75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8520" y="3013200"/>
            <a:ext cx="1722600" cy="711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Te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9640" y="1498680"/>
            <a:ext cx="2041560" cy="79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3280" y="3565440"/>
            <a:ext cx="1722240" cy="671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9120" y="4565520"/>
            <a:ext cx="1722240" cy="67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2998800"/>
            <a:ext cx="2041560" cy="79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962800">
            <a:off x="2533320" y="1915920"/>
            <a:ext cx="1716120" cy="341280"/>
          </a:xfrm>
          <a:prstGeom prst="leftRightArrow">
            <a:avLst>
              <a:gd name="adj1" fmla="val 50000"/>
              <a:gd name="adj2" fmla="val 1001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180400">
            <a:off x="2364840" y="2705040"/>
            <a:ext cx="1717920" cy="343080"/>
          </a:xfrm>
          <a:prstGeom prst="leftRightArrow">
            <a:avLst>
              <a:gd name="adj1" fmla="val 50000"/>
              <a:gd name="adj2" fmla="val 996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710000">
            <a:off x="1755360" y="4324320"/>
            <a:ext cx="1717560" cy="343080"/>
          </a:xfrm>
          <a:prstGeom prst="leftRightArrow">
            <a:avLst>
              <a:gd name="adj1" fmla="val 50000"/>
              <a:gd name="adj2" fmla="val 9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296200">
            <a:off x="3582000" y="394704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24600" y="3219480"/>
            <a:ext cx="1715760" cy="341280"/>
          </a:xfrm>
          <a:prstGeom prst="leftRightArrow">
            <a:avLst>
              <a:gd name="adj1" fmla="val 50000"/>
              <a:gd name="adj2" fmla="val 10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105400">
            <a:off x="5527800" y="234936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6023400">
            <a:off x="1191240" y="2932920"/>
            <a:ext cx="1128600" cy="396720"/>
          </a:xfrm>
          <a:prstGeom prst="leftRightArrow">
            <a:avLst>
              <a:gd name="adj1" fmla="val 50000"/>
              <a:gd name="adj2" fmla="val 566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7256600">
            <a:off x="4273560" y="2435400"/>
            <a:ext cx="1101600" cy="396720"/>
          </a:xfrm>
          <a:prstGeom prst="leftRightArrow">
            <a:avLst>
              <a:gd name="adj1" fmla="val 50000"/>
              <a:gd name="adj2" fmla="val 552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9835400">
            <a:off x="4357800" y="4025520"/>
            <a:ext cx="2874960" cy="343080"/>
          </a:xfrm>
          <a:prstGeom prst="leftRightArrow">
            <a:avLst>
              <a:gd name="adj1" fmla="val 53509"/>
              <a:gd name="adj2" fmla="val 128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510400">
            <a:off x="2212560" y="3547800"/>
            <a:ext cx="1717560" cy="342720"/>
          </a:xfrm>
          <a:prstGeom prst="leftRightArrow">
            <a:avLst>
              <a:gd name="adj1" fmla="val 50000"/>
              <a:gd name="adj2" fmla="val 997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6280" y="5000760"/>
            <a:ext cx="1722240" cy="447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8040" y="5165640"/>
            <a:ext cx="1722240" cy="447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645600">
            <a:off x="3247560" y="5169960"/>
            <a:ext cx="1268640" cy="341640"/>
          </a:xfrm>
          <a:prstGeom prst="leftRightArrow">
            <a:avLst>
              <a:gd name="adj1" fmla="val 50000"/>
              <a:gd name="adj2" fmla="val 739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94320" y="4398840"/>
            <a:ext cx="1951200" cy="68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7256600">
            <a:off x="7147800" y="3867480"/>
            <a:ext cx="906120" cy="396720"/>
          </a:xfrm>
          <a:prstGeom prst="leftRightArrow">
            <a:avLst>
              <a:gd name="adj1" fmla="val 50000"/>
              <a:gd name="adj2" fmla="val 454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826600">
            <a:off x="4565520" y="4784400"/>
            <a:ext cx="2167200" cy="342720"/>
          </a:xfrm>
          <a:prstGeom prst="leftRightArrow">
            <a:avLst>
              <a:gd name="adj1" fmla="val 50000"/>
              <a:gd name="adj2" fmla="val 1258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05400">
            <a:off x="4719600" y="3851280"/>
            <a:ext cx="2170080" cy="420840"/>
          </a:xfrm>
          <a:prstGeom prst="leftRightArrow">
            <a:avLst>
              <a:gd name="adj1" fmla="val 39713"/>
              <a:gd name="adj2" fmla="val 608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58880" y="5794200"/>
            <a:ext cx="172260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97360" y="5851440"/>
            <a:ext cx="172224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3627600">
            <a:off x="3419640" y="533772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9000">
            <a:off x="3198960" y="6038640"/>
            <a:ext cx="982440" cy="341280"/>
          </a:xfrm>
          <a:prstGeom prst="leftRightArrow">
            <a:avLst>
              <a:gd name="adj1" fmla="val 50000"/>
              <a:gd name="adj2" fmla="val 57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4540200">
            <a:off x="517680" y="489168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14280" y="171360"/>
            <a:ext cx="763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complex landscape of practic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4746600" y="828720"/>
            <a:ext cx="48927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 body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228680"/>
            <a:ext cx="9010800" cy="56293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efefe">
                  <a:alpha val="1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77840" y="1946160"/>
            <a:ext cx="1722600" cy="75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38520" y="3013200"/>
            <a:ext cx="1722600" cy="711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Tea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49640" y="1498680"/>
            <a:ext cx="2041560" cy="79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3280" y="3565440"/>
            <a:ext cx="1722240" cy="671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9120" y="4565520"/>
            <a:ext cx="1722240" cy="67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Workplace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2998800"/>
            <a:ext cx="2041560" cy="790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Research</a:t>
            </a:r>
            <a:br>
              <a:rPr sz="1400"/>
            </a:b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discipli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962800">
            <a:off x="2533320" y="1915920"/>
            <a:ext cx="1716120" cy="341280"/>
          </a:xfrm>
          <a:prstGeom prst="leftRightArrow">
            <a:avLst>
              <a:gd name="adj1" fmla="val 50000"/>
              <a:gd name="adj2" fmla="val 1001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180400">
            <a:off x="2364840" y="2705040"/>
            <a:ext cx="1717920" cy="343080"/>
          </a:xfrm>
          <a:prstGeom prst="leftRightArrow">
            <a:avLst>
              <a:gd name="adj1" fmla="val 50000"/>
              <a:gd name="adj2" fmla="val 996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710000">
            <a:off x="1755360" y="4324320"/>
            <a:ext cx="1717560" cy="343080"/>
          </a:xfrm>
          <a:prstGeom prst="leftRightArrow">
            <a:avLst>
              <a:gd name="adj1" fmla="val 50000"/>
              <a:gd name="adj2" fmla="val 9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7296200">
            <a:off x="3582000" y="394704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24600" y="3219480"/>
            <a:ext cx="1715760" cy="341280"/>
          </a:xfrm>
          <a:prstGeom prst="leftRightArrow">
            <a:avLst>
              <a:gd name="adj1" fmla="val 50000"/>
              <a:gd name="adj2" fmla="val 100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105400">
            <a:off x="5527800" y="234936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6023400">
            <a:off x="1191240" y="2932920"/>
            <a:ext cx="1128600" cy="396720"/>
          </a:xfrm>
          <a:prstGeom prst="leftRightArrow">
            <a:avLst>
              <a:gd name="adj1" fmla="val 50000"/>
              <a:gd name="adj2" fmla="val 566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7256600">
            <a:off x="4273560" y="2435400"/>
            <a:ext cx="1101600" cy="396720"/>
          </a:xfrm>
          <a:prstGeom prst="leftRightArrow">
            <a:avLst>
              <a:gd name="adj1" fmla="val 50000"/>
              <a:gd name="adj2" fmla="val 552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9835400">
            <a:off x="4357800" y="4025520"/>
            <a:ext cx="2874960" cy="343080"/>
          </a:xfrm>
          <a:prstGeom prst="leftRightArrow">
            <a:avLst>
              <a:gd name="adj1" fmla="val 53509"/>
              <a:gd name="adj2" fmla="val 128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0510400">
            <a:off x="2212560" y="3547800"/>
            <a:ext cx="1717560" cy="342720"/>
          </a:xfrm>
          <a:prstGeom prst="leftRightArrow">
            <a:avLst>
              <a:gd name="adj1" fmla="val 50000"/>
              <a:gd name="adj2" fmla="val 997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6280" y="5000760"/>
            <a:ext cx="1722240" cy="447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8040" y="5165640"/>
            <a:ext cx="1722240" cy="447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645600">
            <a:off x="3247560" y="5169960"/>
            <a:ext cx="1268640" cy="341640"/>
          </a:xfrm>
          <a:prstGeom prst="leftRightArrow">
            <a:avLst>
              <a:gd name="adj1" fmla="val 50000"/>
              <a:gd name="adj2" fmla="val 739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4320" y="4398840"/>
            <a:ext cx="1951200" cy="684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rofes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7256600">
            <a:off x="7147800" y="3867480"/>
            <a:ext cx="906120" cy="396720"/>
          </a:xfrm>
          <a:prstGeom prst="leftRightArrow">
            <a:avLst>
              <a:gd name="adj1" fmla="val 50000"/>
              <a:gd name="adj2" fmla="val 454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0826600">
            <a:off x="4565520" y="4784400"/>
            <a:ext cx="2167200" cy="342720"/>
          </a:xfrm>
          <a:prstGeom prst="leftRightArrow">
            <a:avLst>
              <a:gd name="adj1" fmla="val 50000"/>
              <a:gd name="adj2" fmla="val 1258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105400">
            <a:off x="4719600" y="3851280"/>
            <a:ext cx="2170080" cy="420840"/>
          </a:xfrm>
          <a:prstGeom prst="leftRightArrow">
            <a:avLst>
              <a:gd name="adj1" fmla="val 39713"/>
              <a:gd name="adj2" fmla="val 608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58880" y="5794200"/>
            <a:ext cx="172260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97360" y="5851440"/>
            <a:ext cx="1722240" cy="67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munity</a:t>
            </a:r>
            <a:r>
              <a:rPr b="0" lang="en-US" sz="1200" spc="-1" strike="noStrike">
                <a:solidFill>
                  <a:srgbClr val="0000cc"/>
                </a:solidFill>
                <a:latin typeface="Elephant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3627600">
            <a:off x="3419640" y="5337720"/>
            <a:ext cx="1230480" cy="397080"/>
          </a:xfrm>
          <a:prstGeom prst="leftRightArrow">
            <a:avLst>
              <a:gd name="adj1" fmla="val 50000"/>
              <a:gd name="adj2" fmla="val 61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9000">
            <a:off x="3198960" y="6038640"/>
            <a:ext cx="982440" cy="341280"/>
          </a:xfrm>
          <a:prstGeom prst="leftRightArrow">
            <a:avLst>
              <a:gd name="adj1" fmla="val 50000"/>
              <a:gd name="adj2" fmla="val 57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4540200">
            <a:off x="517680" y="4891680"/>
            <a:ext cx="2170080" cy="422280"/>
          </a:xfrm>
          <a:prstGeom prst="leftRightArrow">
            <a:avLst>
              <a:gd name="adj1" fmla="val 39713"/>
              <a:gd name="adj2" fmla="val 606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14280" y="171360"/>
            <a:ext cx="763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undaries in landscapes of practic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514440" y="2647800"/>
            <a:ext cx="914400" cy="83844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400640" y="3476520"/>
          <a:ext cx="72396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00640" y="3476520"/>
                    <a:ext cx="7239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276440" y="43916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29560" y="1371600"/>
          <a:ext cx="757080" cy="13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29560" y="1371600"/>
                    <a:ext cx="75708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229440" y="4886280"/>
          <a:ext cx="1454040" cy="105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29440" y="4886280"/>
                    <a:ext cx="14540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706160" y="2032200"/>
            <a:ext cx="9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2920" y="5799600"/>
            <a:ext cx="16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 pract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81040" y="4876920"/>
          <a:ext cx="1069920" cy="101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040" y="4876920"/>
                    <a:ext cx="10699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54800" y="44992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phe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46600" y="828720"/>
            <a:ext cx="48927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 body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2768760" y="1208160"/>
            <a:ext cx="1117440" cy="839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10960" y="13593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ar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30120" y="1136520"/>
            <a:ext cx="8813880" cy="514368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e0fef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08640" y="1806480"/>
            <a:ext cx="2428920" cy="3981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1840" y="95400"/>
            <a:ext cx="8416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dentity as a curriculum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121520" y="2252520"/>
            <a:ext cx="1038240" cy="2686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28760" y="3038400"/>
            <a:ext cx="3209760" cy="3143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19280" y="3152880"/>
            <a:ext cx="2382840" cy="2325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-219240" y="5175360"/>
            <a:ext cx="311184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Arial"/>
              </a:rPr>
              <a:t>Eng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97240" y="1031760"/>
            <a:ext cx="4066920" cy="2095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476600" y="1228680"/>
            <a:ext cx="1414440" cy="1619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60520" y="1209600"/>
            <a:ext cx="311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Arial"/>
              </a:rPr>
              <a:t>Imag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5240" y="4606920"/>
            <a:ext cx="311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Arial"/>
              </a:rPr>
              <a:t>Alig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-295200" y="6149880"/>
            <a:ext cx="9794520" cy="720720"/>
            <a:chOff x="-295200" y="6149880"/>
            <a:chExt cx="9794520" cy="720720"/>
          </a:xfrm>
        </p:grpSpPr>
        <p:sp>
          <p:nvSpPr>
            <p:cNvPr id="234" name=""/>
            <p:cNvSpPr/>
            <p:nvPr/>
          </p:nvSpPr>
          <p:spPr>
            <a:xfrm>
              <a:off x="16560" y="6149880"/>
              <a:ext cx="9125640" cy="7207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38160">
              <a:solidFill>
                <a:srgbClr val="cc00cc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295200" y="6256800"/>
              <a:ext cx="979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The 21st century will be the century of ident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997360" y="3046320"/>
            <a:ext cx="167940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Crossing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8720" y="2152800"/>
            <a:ext cx="167940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Being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cre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6880" y="5153040"/>
            <a:ext cx="167940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Going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e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5086440"/>
            <a:ext cx="167976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Making a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4038480"/>
            <a:ext cx="1679400" cy="87660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Building a traj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91040" y="2789280"/>
            <a:ext cx="167976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Locating one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91120" y="1257480"/>
            <a:ext cx="1679760" cy="876240"/>
          </a:xfrm>
          <a:prstGeom prst="roundRect">
            <a:avLst>
              <a:gd name="adj" fmla="val 16667"/>
            </a:avLst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Seeing a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866880" y="714240"/>
            <a:ext cx="4667040" cy="181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57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5109480" y="3806640"/>
            <a:ext cx="38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r more inform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o to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ww.eweng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6600" y="5283360"/>
            <a:ext cx="3813120" cy="1585800"/>
            <a:chOff x="66600" y="5283360"/>
            <a:chExt cx="3813120" cy="1585800"/>
          </a:xfrm>
        </p:grpSpPr>
        <p:sp>
          <p:nvSpPr>
            <p:cNvPr id="248" name=""/>
            <p:cNvSpPr/>
            <p:nvPr/>
          </p:nvSpPr>
          <p:spPr>
            <a:xfrm>
              <a:off x="957240" y="5283360"/>
              <a:ext cx="29224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ienne Wen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Learning for a small planet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.O. Box 810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 North San Juan, CA 95960, U.S.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ne  (530) 292-9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-mail  etienne@ewenger.com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Website: www.ewenger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600" y="5375160"/>
              <a:ext cx="266760" cy="1380600"/>
            </a:xfrm>
            <a:custGeom>
              <a:avLst/>
              <a:gdLst>
                <a:gd name="textAreaLeft" fmla="*/ 38880 w 266760"/>
                <a:gd name="textAreaRight" fmla="*/ 227880 w 266760"/>
                <a:gd name="textAreaTop" fmla="*/ 38880 h 1380600"/>
                <a:gd name="textAreaBottom" fmla="*/ 1341720 h 1380600"/>
              </a:gdLst>
              <a:ahLst/>
              <a:rect l="textAreaLeft" t="textAreaTop" r="textAreaRight" b="textAreaBottom"/>
              <a:pathLst>
                <a:path w="21600" h="111668">
                  <a:moveTo>
                    <a:pt x="10800" y="0"/>
                  </a:moveTo>
                  <a:arcTo wR="10800" hR="10800" stAng="16200000" swAng="-5400000"/>
                  <a:lnTo>
                    <a:pt x="0" y="100868"/>
                  </a:lnTo>
                  <a:arcTo wR="10800" hR="10800" stAng="10800000" swAng="-5400000"/>
                  <a:lnTo>
                    <a:pt x="10800" y="11166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16a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600" y="6527520"/>
              <a:ext cx="961920" cy="285480"/>
            </a:xfrm>
            <a:prstGeom prst="roundRect">
              <a:avLst>
                <a:gd name="adj" fmla="val 50000"/>
              </a:avLst>
            </a:prstGeom>
            <a:solidFill>
              <a:srgbClr val="16a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880" y="6156000"/>
              <a:ext cx="495360" cy="542880"/>
            </a:xfrm>
            <a:prstGeom prst="rtTriangle">
              <a:avLst/>
            </a:prstGeom>
            <a:solidFill>
              <a:srgbClr val="16a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181080" y="5537160"/>
              <a:ext cx="1055520" cy="104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28:50Z</dcterms:created>
  <dc:creator>Etienne Wenger</dc:creator>
  <dc:description/>
  <dc:language>en-US</dc:language>
  <cp:lastModifiedBy>Etienne Wenger</cp:lastModifiedBy>
  <cp:lastPrinted>2001-03-20T07:43:23Z</cp:lastPrinted>
  <dcterms:modified xsi:type="dcterms:W3CDTF">2009-07-04T11:40:46Z</dcterms:modified>
  <cp:revision>143</cp:revision>
  <dc:subject/>
  <dc:title>No Slide Title</dc:title>
</cp:coreProperties>
</file>